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7FF-DF31-428D-9DBD-DD01AA3F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0DA-CAD6-4E4F-899C-CA65FA8A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B38-B4C6-4370-8879-92E9A5C4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A63-DC16-4022-BF35-4AA96863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3B2-72D0-4676-A3AD-4896786F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BC2-F6F4-4206-A5CA-E2AC2233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36C-2348-49A5-93B1-05B4DCB9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C10-DC1D-4FE7-966D-29E298DC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36A-A46C-45A4-9189-4748CD51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336-8A26-492E-A5B8-EC8A063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46BE-F7C7-44AB-A286-E88FEAB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CB4-B2BC-49B5-8A25-BC8E4A6A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082-5908-489D-B6B0-F890BAC98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tthew Guentz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t2.gstatic.com/images?q=tbn:ANd9GcQPt4gthsLMTuT1uOKNLAg1UumPQsRQDBg9P_xzgE1gLRCBf6konw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23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t0.gstatic.com/images?q=tbn:ANd9GcSZ-SrgrvVmGWLN01Ab-iuVfd0qIKdesJ_d6W-sajHQ5j-GISoGzw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ttp://t3.gstatic.com/images?q=tbn:ANd9GcTItnzNcU7JUxbBzkmgn754nb_LPdssueWfNDD57N8eZs_rkWsp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t2.gstatic.com/images?q=tbn:ANd9GcQQKhY5D_h5cdMqIBFQEChKiLWl604eWmQaK-eLN6NoXiQ8-D3R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http://t1.gstatic.com/images?q=tbn:ANd9GcR0Wetj1NXzM43QTHkAbT_u7eFMpkTen006kL8R4fcePArCxyBM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Agora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ssembly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itizen.jpg"/>
          <p:cNvPicPr/>
          <p:nvPr/>
        </p:nvPicPr>
        <p:blipFill>
          <a:blip r:embed="rId1"/>
          <a:stretch/>
        </p:blipFill>
        <p:spPr>
          <a:xfrm>
            <a:off x="1143000" y="281952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t0.gstatic.com/images?q=tbn:ANd9GcRoh9VkNaevNVVhtKU32GO5GIKrs7vnsHjsYV5P2gxqJ-ZxgFG7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t2.gstatic.com/images?q=tbn:ANd9GcRqL9xUWRaIjoMUMoAQtdiagra-IdNJE4yBTTqZBZGXyt7zVzrV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t2.gstatic.com/images?q=tbn:ANd9GcRhVUrVEvkLs7bgbpT6FLPQBi3b-jh8a1o6v6clorQGycfaa4MgDw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t2.gstatic.com/images?q=tbn:ANd9GcSdl6TDudjXMBzT5laLLCBYEw_qMoynvlITsQOs6H60U9Fi9EQV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9T16:46:59Z</dcterms:modified>
  <cp:revision>147</cp:revision>
  <dc:subject/>
  <dc:title>Ancient Greece</dc:title>
</cp:coreProperties>
</file>